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150-F61D-4B7F-8E17-DCCFC5A33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FC6-11B8-4237-9C64-C965AE118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069-05B6-4DD0-B72F-91BAF2BB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E6E-5EE2-46CE-A7FA-0A659E71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84A-FC5D-4027-8B33-3C2F1EF4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64A-227F-49F0-BDAC-BF340856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FE3-CD10-4F4E-B626-CD63557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8F2-1981-443E-AABC-38FDC63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197-7075-455A-B9CA-30CE6E6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C6E-05B0-4FBA-8BC7-0FC75BD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B85-3D64-46C7-BD16-D42CB302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EE7-91E0-47C3-9299-49DC872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89B-16D1-4AE1-9CD2-32CC38A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679-706B-4522-8FE5-1DA14FE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8E5-DB0D-476B-9CAF-80265EB7D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 на тему:</a:t>
            </a:r>
            <a:br>
              <a:rPr sz="4800"/>
            </a:br>
            <a:r>
              <a:rPr b="0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«Профилактика бешен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6820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бешен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ешенств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строе вирусное заболевание животных и человека, всегда заканчивающееся смер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мире 55 000 человек умирают от заболевания бешенством, переданным им от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сточниками инфекци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ешенстве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хищные       Кошки               Соб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beshinaiasab"/>
          <p:cNvPicPr/>
          <p:nvPr/>
        </p:nvPicPr>
        <p:blipFill>
          <a:blip r:embed="rId1"/>
          <a:stretch/>
        </p:blipFill>
        <p:spPr>
          <a:xfrm>
            <a:off x="6143760" y="3571920"/>
            <a:ext cx="242892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-28"/>
          <p:cNvPicPr/>
          <p:nvPr/>
        </p:nvPicPr>
        <p:blipFill>
          <a:blip r:embed="rId2"/>
          <a:stretch/>
        </p:blipFill>
        <p:spPr>
          <a:xfrm>
            <a:off x="3419640" y="292428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0" y="335772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ица, волк, шакал, куница, барсук, ласка, хор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www.kurer-sreda.ru/files/2009/02/07_lisa.jpg"/>
          <p:cNvPicPr/>
          <p:nvPr/>
        </p:nvPicPr>
        <p:blipFill>
          <a:blip r:embed="rId3"/>
          <a:stretch/>
        </p:blipFill>
        <p:spPr>
          <a:xfrm>
            <a:off x="395280" y="4221000"/>
            <a:ext cx="26766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ые распространители болез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дячие и безнадзорные соб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хищники (лисица, волк, шакал, куница, барсук, ласка, хорь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www.kurer-sreda.ru/files/2009/02/07_lisa.jpg"/>
          <p:cNvPicPr/>
          <p:nvPr/>
        </p:nvPicPr>
        <p:blipFill>
          <a:blip r:embed="rId1"/>
          <a:stretch/>
        </p:blipFill>
        <p:spPr>
          <a:xfrm>
            <a:off x="3000240" y="3929040"/>
            <a:ext cx="2857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де содержится вирус бешен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 бешенства содержится в слюне живот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ак передаётся виру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роисходит через укус или же, при попадении слюны на участки кожи, особенно повреждённые. Кроме того, можно ещё заразиться при контакте с частями организма – кровью, шкурой и внутренними органами убитого млекопитающег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 опасен вирус бешен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 бешенства вызывает специфический энцефалит (воспаление головного мозга) у животных и человека. Затем, распространяясь по нервным путям, вирус достигает слюнных желёз, нервных клеток коры головного мозга и других его структур и, поражая их, вызывает тяжёлые необратимые нару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ые признаки больного бешенством животного: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от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атый 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приёма пищи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ъерошенная шер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ы и ослюнения любым видом животного опасны для здоровь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Соблюдай прав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й контактов с дикими живо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бирай никаких животных на улице, садовых участках, в л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трогай чуж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юбом укусе животным обязательно обратись в медицинск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ослюнения или укуса перед обращением в медицинское учреждение срочно промой водой с мы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транном поведении животного или подозрении на бешенство срочно сообщи в ветеринарную служ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язательном порядке раз в год прививай домашних животных от бешенства в ветеринарной лечеб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20:59Z</dcterms:created>
  <dc:creator>Светлана</dc:creator>
  <dc:description/>
  <dc:language>en-US</dc:language>
  <cp:lastModifiedBy>Энвиль</cp:lastModifiedBy>
  <dcterms:modified xsi:type="dcterms:W3CDTF">2016-01-24T21:30:46Z</dcterms:modified>
  <cp:revision>15</cp:revision>
  <dc:subject/>
  <dc:title>Беседа на тему: «Профилактика бешенства»</dc:title>
</cp:coreProperties>
</file>